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A4B-17C9-43EF-8215-D19DC8DD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C04-1902-4EE2-B4B9-54D791C0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E25-2F3B-40B7-9179-CF36D74A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58B-F249-4E1F-8D89-31EA6A4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5A3-2E88-4394-82B4-86669B70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A12-BF24-467A-881C-F4014102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100-5A5B-4190-968E-D9FE712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CD56-699F-4436-AE69-06E527DB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FD6F-9537-4116-8B84-1147693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A74-4E61-4391-8597-EAB5085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E97C-C236-466C-888B-98A6200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493-05A3-4C93-88D4-9E0FD82C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F4B-DBA8-4A12-8D85-C6126FF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7C85-AD50-4548-9BEC-9BFA20A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AEE-A3C7-499B-9567-01C0AF1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B14-B9A2-45A9-B0D0-A6B54339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BE0-EED3-4FA1-986D-ADEB060F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238-235A-4616-B7ED-3646DAC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F37-6D8F-4934-8882-8B5E5270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5DA-30D0-4D34-A3DE-D5A626E8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9BA-81CC-44FD-B45F-68AED5B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FE0-0BC8-4D2D-9D1B-5E0CA92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434-6818-45C5-A737-754639A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DA1-FEA4-4295-A799-9CB7CF8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553-D73C-4D29-B8A7-F227FABA0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5C5-8BDB-4C00-8AE0-5998B268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manda Hath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A period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am I going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usin live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rother and cousins on fun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e the cites and te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am I going to get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fly to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m I going to sta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stay in or around Tok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with and visit my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-ichi Hotel Tok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m I doing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an amusement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all the differen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 Palace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bukiza Th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380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 Ticket:$968 p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el:$ 191 pe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co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9:47:44Z</dcterms:created>
  <dc:creator>kfisch</dc:creator>
  <dc:description/>
  <cp:keywords/>
  <dc:language>en-US</dc:language>
  <cp:lastModifiedBy>kfisch</cp:lastModifiedBy>
  <dcterms:modified xsi:type="dcterms:W3CDTF">2007-11-29T20:08:17Z</dcterms:modified>
  <cp:revision>5</cp:revision>
  <dc:subject/>
  <dc:title>Jap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